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11A54-487A-4F04-87F7-821CB9F7B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59C11-BFB3-40C8-8B0D-87A1A4186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FE36-4768-4CA7-B470-6B45A4B7D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302F-954E-4441-97D9-6749F7E842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958D-4184-4CF1-A191-0D47814B3A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3DAA6-FD75-44BD-8E96-DF768F5B0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A7ACE-684C-4134-87D5-422C99D96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A4ED-F3E9-4215-9129-7BD191FDE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1A21E-B92A-452C-AED9-27D705EB4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CA78-31CA-4F0B-B907-FA5AF1EF5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5F80-CE07-4B65-847D-76F20BA0A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12AB-B736-4098-B653-F9DC495FF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EC8FAAE9-2B30-46B2-BA37-E724EFF3A0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7.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96E9EB9D-8072-4886-B75F-7B732C2A38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72000" y="41911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est peu probable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Vanessa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u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er avec Samu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1"/>
          <a:stretch/>
        </p:blipFill>
        <p:spPr>
          <a:xfrm>
            <a:off x="1031760" y="2209680"/>
            <a:ext cx="35402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A1E5BD61-CAFC-4104-B666-DCC57BF8CE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23960" y="1571760"/>
          <a:ext cx="7696080" cy="376236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2516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333720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9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xpression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moins que, de peur que, de crainte que, sans que,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t 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often accompanied by th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explétif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he word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placed before the subjunctive form of the verb; it is not a negation and adds no meaning to the stateme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élèves arrivent avant que le professeur ne commence son cour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tudents arrive before the teacher starts his clas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6045EEA5-2621-4A7C-9C8B-7A29680BB6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é compos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-que-parf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past subjunctive is formed by combining a helping verb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ê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a past participle. In the past subjunctive, the helping verb is in the present sub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3520" y="3581280"/>
          <a:ext cx="8229600" cy="1371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se peut qu’il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ent oublié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réunion de neuf heur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possible that they forgot the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o’clock meet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ne sommes pas certains qu’ell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it arrivé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nt nou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are not certain that she arrived before u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5925B557-B57D-44EE-815F-4A18B39A56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verb takes the helping ver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é compos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-que-parf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also tak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st sub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1" descr="p101"/>
          <p:cNvPicPr/>
          <p:nvPr/>
        </p:nvPicPr>
        <p:blipFill>
          <a:blip r:embed="rId1"/>
          <a:stretch/>
        </p:blipFill>
        <p:spPr>
          <a:xfrm>
            <a:off x="3505320" y="3606840"/>
            <a:ext cx="6094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3520" y="3149640"/>
          <a:ext cx="7696080" cy="25653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256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s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/ell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vons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vez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/elle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ont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j’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e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tu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es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il/ell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t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nou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yons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vou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yez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ils/elle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ent télécharg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33AD3937-3626-4D56-9F74-788D2815F3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verb takes the helping ver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êt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é compos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-que-parf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also tak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êt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st sub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1" descr="p101"/>
          <p:cNvPicPr/>
          <p:nvPr/>
        </p:nvPicPr>
        <p:blipFill>
          <a:blip r:embed="rId1"/>
          <a:stretch/>
        </p:blipFill>
        <p:spPr>
          <a:xfrm>
            <a:off x="3962520" y="3592440"/>
            <a:ext cx="6094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533520" y="3073320"/>
          <a:ext cx="8381880" cy="256536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256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uis adapt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t’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es adapt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/elle s’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est adapt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nou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ommes adapté(e)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vou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êtes adapté(e)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/elles s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ont adapté(e)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je m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ois adapt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tu t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ois adapt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il/elle s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oit adapté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nous nou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oyons adapté(e)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vous vous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oyez adapté(e)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ils/elles s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oient adapté(e)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79D08C75-BD30-42BD-93D7-5F3A62C9F6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da9"/>
                </a:solidFill>
                <a:latin typeface="Arial"/>
              </a:rPr>
              <a:t>The subjunctive with expressions of doubt and con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ubjunctive in subordinate clauses after expressions of doubt or uncertai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3581280"/>
          <a:ext cx="8229600" cy="1371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est peu probable qu’il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tronaut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unlikely that he’s an astronau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est possible qu’o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erriss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avanc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possible that we’re landing earl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9D7A567E-12B4-4FB2-8A1E-806D628573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2"/>
          <p:cNvSpPr/>
          <p:nvPr/>
        </p:nvSpPr>
        <p:spPr>
          <a:xfrm>
            <a:off x="457200" y="2590920"/>
            <a:ext cx="8153280" cy="3200400"/>
          </a:xfrm>
          <a:prstGeom prst="roundRect">
            <a:avLst>
              <a:gd name="adj" fmla="val 15722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xpressions of doubt or uncertainty are typically followed by the sub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33520" y="2590920"/>
          <a:ext cx="8001000" cy="317484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160"/>
                <a:gridCol w="2000520"/>
              </a:tblGrid>
              <a:tr h="3174840">
                <a:tc>
                  <a:txBody>
                    <a:bodyPr lIns="90000" rIns="90000" tIns="228600" bIns="46800" anchor="t">
                      <a:noAutofit/>
                    </a:bodyPr>
                    <a:p>
                      <a:pPr marL="23004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uter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douteux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impossible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peu probable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possible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46800" anchor="t">
                      <a:noAutofit/>
                    </a:bodyPr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oubt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doubtful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2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impossible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unlikely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possible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46800" anchor="t">
                      <a:noAutofit/>
                    </a:bodyPr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n’est pas évident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n’est pas sûr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n’est pas vrai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semble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se peut que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46800" anchor="t">
                      <a:noAutofit/>
                    </a:bodyPr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not obvious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not sure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2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not true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2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seems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possible that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490608E2-CB2D-4840-9B00-3E2B8CF566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pressions call for the subjunctive in the negative, but take the indicative in the affirmative. This is because only the negative statements express uncertainty or dou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62120" y="3276720"/>
          <a:ext cx="7772400" cy="1920600"/>
        </p:xfrm>
        <a:graphic>
          <a:graphicData uri="http://schemas.openxmlformats.org/drawingml/2006/table">
            <a:tbl>
              <a:tblPr/>
              <a:tblGrid>
                <a:gridCol w="3622680"/>
                <a:gridCol w="301680"/>
                <a:gridCol w="3848040"/>
              </a:tblGrid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 w="13680">
                      <a:solidFill>
                        <a:srgbClr val="eb5737"/>
                      </a:solidFill>
                    </a:lnT>
                    <a:lnB w="13680">
                      <a:solidFill>
                        <a:srgbClr val="eb57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 w="13680">
                      <a:solidFill>
                        <a:srgbClr val="eb5737"/>
                      </a:solidFill>
                    </a:lnT>
                    <a:lnB w="13680">
                      <a:solidFill>
                        <a:srgbClr val="eb5737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suis sûr qu’elle </a:t>
                      </a:r>
                      <a:r>
                        <a:rPr b="1" lang="en-US" sz="2100" spc="-1" strike="noStrike">
                          <a:solidFill>
                            <a:srgbClr val="ed6b46"/>
                          </a:solidFill>
                          <a:latin typeface="Times New Roman"/>
                        </a:rPr>
                        <a:t>vient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jourd’hui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’m sure she’s coming toda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b573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ne suis pas sûr qu’elle </a:t>
                      </a:r>
                      <a:r>
                        <a:rPr b="1" lang="en-US" sz="2100" spc="-1" strike="noStrike">
                          <a:solidFill>
                            <a:srgbClr val="ed6b46"/>
                          </a:solidFill>
                          <a:latin typeface="Times New Roman"/>
                        </a:rPr>
                        <a:t>vienne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ai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’m not sure she’s coming tomorrow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b5737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31A2EE61-5496-432B-8403-07FB43521E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verb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roire, espérer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nser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negative statements or in questions also require the subjunctive in the subordinate clause. In affirmative statements, the verb in the subordinate clause is in the indicati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3098880"/>
          <a:ext cx="8661240" cy="1701720"/>
        </p:xfrm>
        <a:graphic>
          <a:graphicData uri="http://schemas.openxmlformats.org/drawingml/2006/table">
            <a:tbl>
              <a:tblPr/>
              <a:tblGrid>
                <a:gridCol w="2585880"/>
                <a:gridCol w="216000"/>
                <a:gridCol w="2831400"/>
                <a:gridCol w="216000"/>
                <a:gridCol w="281196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 w="13680">
                      <a:solidFill>
                        <a:srgbClr val="eb5737"/>
                      </a:solidFill>
                    </a:lnT>
                    <a:lnB w="13680">
                      <a:solidFill>
                        <a:srgbClr val="eb57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 w="13680">
                      <a:solidFill>
                        <a:srgbClr val="eb5737"/>
                      </a:solidFill>
                    </a:lnT>
                    <a:lnB w="13680">
                      <a:solidFill>
                        <a:srgbClr val="eb57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 w="13680">
                      <a:solidFill>
                        <a:srgbClr val="eb5737"/>
                      </a:solidFill>
                    </a:lnT>
                    <a:lnB w="13680">
                      <a:solidFill>
                        <a:srgbClr val="eb5737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crois qu’ell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Times New Roman"/>
                        </a:rPr>
                        <a:t>pa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believe she’s leav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b573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ne crois pas qu’ell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Times New Roman"/>
                        </a:rPr>
                        <a:t>par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don’t believe she’s leav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b573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yez-vous qu’elle 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Times New Roman"/>
                        </a:rPr>
                        <a:t>par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 believe she’s leaving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b5737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9" descr="DAC3_p244b"/>
          <p:cNvPicPr/>
          <p:nvPr/>
        </p:nvPicPr>
        <p:blipFill>
          <a:blip r:embed="rId1"/>
          <a:stretch/>
        </p:blipFill>
        <p:spPr>
          <a:xfrm>
            <a:off x="3105000" y="4524480"/>
            <a:ext cx="29322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CEF64AED-131A-489C-812C-E2C00BF0F9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00200"/>
          <a:ext cx="7696080" cy="243828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2552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201276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a negative question containing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se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ir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or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ére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he subordinate clause takes the indicativ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penses-tu pas que c’est une découverte capitale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you think it’s a breakthrough discovery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F65F9DD6-9E2C-4BF0-AF62-629975AC87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junctive is also required after these conj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609480" y="2209680"/>
            <a:ext cx="7925040" cy="228600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2209680"/>
          <a:ext cx="8153280" cy="228600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00160"/>
                <a:gridCol w="2038320"/>
              </a:tblGrid>
              <a:tr h="2286000">
                <a:tc>
                  <a:txBody>
                    <a:bodyPr lIns="90000" rIns="90000" tIns="2286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condition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moins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in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t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en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eur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46800" anchor="t">
                      <a:noAutofit/>
                    </a:bodyPr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the condition t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order t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hou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fear t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46800" anchor="t">
                      <a:noAutofit/>
                    </a:bodyPr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ttendant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qu’à ce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r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rvu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s 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46800" anchor="t">
                      <a:noAutofit/>
                    </a:bodyPr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iting f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t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d th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hou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4710240"/>
          <a:ext cx="8610480" cy="1311120"/>
        </p:xfrm>
        <a:graphic>
          <a:graphicData uri="http://schemas.openxmlformats.org/drawingml/2006/table">
            <a:tbl>
              <a:tblPr/>
              <a:tblGrid>
                <a:gridCol w="4190760"/>
                <a:gridCol w="44197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en que ses intention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i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onnes, elle se trompe souve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hough her intentions are good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is often mistak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s expliquent leur recherche pour que nous en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naissions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les conséquen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 explain their research so that we know the consequen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DE1660E3-9425-41F2-B9BC-3C73A75103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2120" y="1600200"/>
          <a:ext cx="7696080" cy="407196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0968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366228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9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the subject of the main clause is the same as the subject of the subordinate clause, these conjunctions are followed by the infinitive instead of the subjunctive: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condition d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moins d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in d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t d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peur d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ttendant d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nd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s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entré sans parler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came in without speak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arrivera en retard à moins de prendre le trai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ll arrive late unless we take the trai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3-</a:t>
            </a:r>
            <a:fld id="{81E69E7B-32D5-4A7E-9906-D3B573B3ED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da9"/>
                </a:solidFill>
                <a:latin typeface="Arial"/>
              </a:rPr>
              <a:t>The past subju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verb in a subordinate clause following a subjunctive trigger took place in the past, use the past sub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ubjunctive with expressions of doubt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conjunctions; the past subjuncti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5-02-26T14:32:34Z</dcterms:modified>
  <cp:revision>204</cp:revision>
  <dc:subject>D'accord! 3 • Leçon 7: Les sciences et la technologie</dc:subject>
  <dc:title>7.3 The subjunctive with expressions of doubt and conjunctions; the past subjunctive</dc:title>
</cp:coreProperties>
</file>